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DB068-125C-4A1D-B597-0F200C6CF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619FE-4D1B-49CD-B842-79718344E0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5EC52-4B2E-4BF7-9C3F-DC521CC2C0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E9D91-CD16-4EDC-8C89-91687FB7B8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DDE94-B277-464B-8825-C19046DFA9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8EC98-85E3-43F1-9D3D-52581B9430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9A2AC-4FF7-4A31-8307-47AA886722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E34400-4AB5-4F94-9CE1-DF54B08C6C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Potrđeno je da konzumiranje neke hrane nakon unošenja šećera povećava pH vrednost plaka (ZAŠTITNA HRAN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U tom smislu koristan je sir koji se može preporučiti kao poslednja namirnica u obroku ili sigurna už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Takođe. Žvakaće gume sa ksilitolom podižu pH vrednost u ustima nakon uzimanja zaslađene už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Kikiriki (iznad 5 godi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96DF8-8B46-4246-AFA8-39E35C830E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1AFD2-8A9E-4AFC-8E08-F64A79ED14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74897-3D46-4C54-92F7-E85854D319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6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6918D-76C9-4E2A-9B9C-333D268B91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800C6-E2A1-4039-AEBB-EA324B70A4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0011C-28E6-4FC8-8DDE-AF1DCBBEAF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294AD-760B-4C1A-9095-B49C134D12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CA283-1D78-446A-B6B5-7135178C29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5BD2C-4672-4ECA-9B9E-B4912E0CC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6740D-16EC-4B46-83EC-00800BB8B1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9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31F-BF5C-447C-87D2-C23CBFCC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FB6-A973-4141-BDBB-DCDE7C4C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687-3438-44E9-B5C7-8B841976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0F3-649F-46C2-9C65-1776A366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86D-57C3-4870-B14E-23E27266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C78-2DC6-4A4F-BF7C-8975B889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E8F-514C-45F2-875B-CF0AF718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81C-A18E-4A9D-800E-C296E179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BA2-3399-4C35-85FD-985E00A0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9FF-2DBE-4259-B0EC-E91355B1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2F9-4D9B-47E7-9AE4-E8578A40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EA3-5F4C-40BD-8424-9C437B7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F024AB-79AF-4F04-9558-DF4982A383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ISHRANA I ORALNO</a:t>
            </a:r>
            <a:br>
              <a:rPr sz="4800"/>
            </a:b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ZDRAVLJE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3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ZAMENE ZA ŠEĆERE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196960" y="2088720"/>
            <a:ext cx="62089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amene za šećere nastali su izmenom hemijske strukture šećera prevođenjem u šećerni alkohol koji bakterije slabo fermentišu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INTENZIVNI ZASLAĐIVAČ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Mnogo slađi od prirodnih šećera i nisko kalorični su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Sahar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Asparta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Acesulfam 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Thaumat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VOLUMINOZNI ZASLAĐIVAČ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Najčešće se koriste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Sorbit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Manit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Xylit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Likaz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Isomal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Adent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UTICAJ MAST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30480" y="2134800"/>
            <a:ext cx="59482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tvrđena je niska prevalencija karijesa kod Eskima koji su u svojoj svakodnevnoj ishrani imali čak oko 80% masti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eki autori su izneli pretpostavku po kojoj masti i ulja obrazuju tanak masni sloj na površini gleđi i na taj način štite zub od dejstva lokalnih faktor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UTICAJ BELANČEVIN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54480" y="2423880"/>
            <a:ext cx="5886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Mnogobrojna istraživanja na životinjama su pokazala da izostanak belančevina u svakodnevnoj ishrani u periodu formiranja klice zuba dovodi do smanjenja rezistencije zuba na pojavu karijesa, što se može objasniti stvaranjem iregularnog gleđnog matriks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HRANA I PIĆE SA NISKIM RIZIKOM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54480" y="2423880"/>
            <a:ext cx="5886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ir kao „sigurna užina“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Žvakaće gu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Hleb i testen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veže voć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ikiri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Vod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Mlek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Napici bez šećer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MALA DEC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07200" y="2576160"/>
            <a:ext cx="5790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lana hrana u ranom detinjstv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Bez napitaka pred spavan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Umesto slatkiša za poklon igračka, voće ili či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SUVA UST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54840" y="2576160"/>
            <a:ext cx="5790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eparati koji vlaže us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„</a:t>
            </a: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igurni“ napic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Žvakaće gu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UVOD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96640" y="22111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Ishrana utiče na procese rasta, održavanja i obnove, kako celokupnog organizma tako i njegovih pojedinih delov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Nepravilna ishrana doprinosi razvoju različitih oboljenja, poput koronarne srčane bolesti, povišenog krvnog pritiska, dijabetesa tipa 2 i gojaznosti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524"/>
              </a:spcBef>
              <a:buClr>
                <a:srgbClr val="f9a12a"/>
              </a:buClr>
              <a:buFont typeface="Trebuchet MS"/>
              <a:buChar char="−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200" spc="-1" strike="noStrike">
                <a:solidFill>
                  <a:srgbClr val="ffffff"/>
                </a:solidFill>
                <a:latin typeface="Trebuchet MS"/>
              </a:rPr>
              <a:t>NAVIKE U ISHRAN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261040" y="2423880"/>
            <a:ext cx="61452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Promene u načinu i navikama u ishrani od korišćenja prirodne, sirove hrane do visoko rafinisane, prerađene i koncentrovane hrane, uticale su najviše na organe za žvakanj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ISHRANA I KARIJES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1147680" y="1738440"/>
            <a:ext cx="1049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9a12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Danas se smatra da je ishrana pored faktora domaćina i mikroorganizama usne duplje jedan od tri najvažnija faktora u etiopatogenezi karijesa zub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AutoShape 59"/>
          <p:cNvSpPr/>
          <p:nvPr/>
        </p:nvSpPr>
        <p:spPr>
          <a:xfrm>
            <a:off x="2911320" y="5570640"/>
            <a:ext cx="1640160" cy="345960"/>
          </a:xfrm>
          <a:prstGeom prst="roundRect">
            <a:avLst>
              <a:gd name="adj" fmla="val 50000"/>
            </a:avLst>
          </a:prstGeom>
          <a:solidFill>
            <a:srgbClr val="f45e4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rebuchet MS"/>
              </a:rPr>
              <a:t>ENDOGE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AutoShape 59"/>
          <p:cNvSpPr/>
          <p:nvPr/>
        </p:nvSpPr>
        <p:spPr>
          <a:xfrm>
            <a:off x="7483320" y="5572080"/>
            <a:ext cx="1640160" cy="345960"/>
          </a:xfrm>
          <a:prstGeom prst="roundRect">
            <a:avLst>
              <a:gd name="adj" fmla="val 50000"/>
            </a:avLst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Trebuchet MS"/>
              </a:rPr>
              <a:t>EGZOGE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UTICAJ NA ZUBE U RAZVITKU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 izgradnji organske osnovice zuba – matriksa, najvažniju ulogu imaju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mast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ugljeni hidrat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protein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 periodu mineralizacije neorganskog dela zuba od velike važnosti je prisustv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mineralnih soli (Ca, P, F, Mg)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vitamin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hormona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POTECIJAL MIKROELEMENAT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87680" y="1744560"/>
            <a:ext cx="425628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4000" indent="-23400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ariogeni potencij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fffff"/>
                </a:solidFill>
                <a:latin typeface="Trebuchet MS"/>
              </a:rPr>
              <a:t>S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90000"/>
              </a:lnSpc>
              <a:spcBef>
                <a:spcPts val="52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ariostatičk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S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M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L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M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Indiferentni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fffff"/>
                </a:solidFill>
                <a:latin typeface="Trebuchet MS"/>
              </a:rPr>
              <a:t>F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1900" spc="-1" strike="noStrike">
                <a:solidFill>
                  <a:srgbClr val="ffffff"/>
                </a:solidFill>
                <a:latin typeface="Trebuchet MS"/>
              </a:rPr>
              <a:t>Pb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340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UTICAJ ISHRANE NA ZUBE U FUNKCIJ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96640" y="2088720"/>
            <a:ext cx="10001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FIZIČKI uticaj </a:t>
            </a:r>
            <a:r>
              <a:rPr b="1" lang="en-US" sz="2800" spc="-1" strike="noStrike">
                <a:solidFill>
                  <a:srgbClr val="f9a12a"/>
                </a:solidFill>
                <a:latin typeface="Trebuchet MS"/>
              </a:rPr>
              <a:t>- </a:t>
            </a: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sledice prelaska na industrijsku i rafiniranu hranu se ogledaju u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Izostajanju samočišćenja zub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nedostatku masaže parodoncijuma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fffff"/>
                </a:solidFill>
                <a:latin typeface="Trebuchet MS"/>
              </a:rPr>
              <a:t>hipofunkciji mastikatorne muskulature, itd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UTICAJ ISHRANE NA ZUBE U FUNKCIJI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97000" y="2088720"/>
            <a:ext cx="9563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NEPOSREDNO HEMIJSKO delovanje hrane podrazumeva unošenje kisele hrane u vidu kiselih bombona, salata, limunovog soka, it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POSREDNO HEMIJSKO delovanje hrane je daleko značajnije za nastanak karijesa. Uneta hrana se pod dejstvom bakterija fermentira i stvaraju se kiseli metaboliti koji kada ostanu dovoljno dugo na površini zuba dovode do pojačane demineralizacije gleđi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fffff"/>
                </a:solidFill>
                <a:latin typeface="Trebuchet MS"/>
              </a:rPr>
              <a:t>UTICAJ UGLJENIH HIDRAT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196960" y="2088720"/>
            <a:ext cx="66294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orast proizvodnje i potrošnje šećera doveli su povedanja incidence karijesa svuda u svetu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 svakodnevnoj ishrani se najčešće korist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saharo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lakto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frukto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gluko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rebuchet MS"/>
              </a:rPr>
              <a:t>maltoz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7:14:27Z</dcterms:modified>
  <cp:revision>614</cp:revision>
  <dc:subject/>
  <dc:title>RTG U DEČJOJ STOMATOLOGIJI</dc:title>
</cp:coreProperties>
</file>